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00D-9B61-417B-8056-D6D7A57B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4C2-A6BF-46B1-9266-ED8763CC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B19-223E-44BD-BF31-DF8290FE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DC5-350E-496E-9794-328B0368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548-E41D-4BC7-B7E0-697071B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B0F-ADE7-445E-BC8A-BC319FD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B5C-CA06-4CB5-8781-603CB8A2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83F-F6CB-4AF7-AB71-771EFB0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3C1-2866-495D-8D43-1A121E5E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B71-7FB6-4636-963C-129B99B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733-1402-400C-9361-4D104E7C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5DB-0EA5-4408-A860-6E0F69F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AA536-B350-4EBF-AB27-AF38B6AC7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hat are the effects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global warming on water manag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5400720" cy="414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0360" y="0"/>
            <a:ext cx="3240360" cy="4859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6480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440000"/>
            <a:ext cx="719928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only solution if we don't stop the global warming is to save drinking water and use rain and desalted water to irrigate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4859280"/>
            <a:ext cx="2880000" cy="1800360"/>
          </a:xfrm>
          <a:prstGeom prst="wedgeEllipseCallout">
            <a:avLst>
              <a:gd name="adj1" fmla="val -84606"/>
              <a:gd name="adj2" fmla="val -3304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Save me, stop the global warmin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ro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non PU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is VIG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Quentin LE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andre GAT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rc-Antoine SAINT-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Made by :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2160720"/>
            <a:ext cx="4500720" cy="46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roduction: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wadays the world is warming, especially due to the huma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re are lots of consequ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We will explain to you one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Consequences of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elting of icebe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The consequences are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drinking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Increase in the salt water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icebe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0"/>
            <a:ext cx="590076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here is a 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of solutions 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0000" y="582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00" y="468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920000" y="234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920000" y="114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920000" y="348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92000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0" y="18669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0" y="72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0" y="306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0" y="41403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0" y="52196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2160720" cy="11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9360" y="3044880"/>
            <a:ext cx="97106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e will base ourse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ore particularly o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nsformation of sal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ater into drinkable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and in the collection of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4930920" cy="4859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For the tranformation in drinking water we found a solution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ories of desalinazation plans 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se factories use two method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 vacuum distillation, we heat the water until it boils and  evaporates, which leaves the salts and minerals at the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second method is  the filtering of water with  very  thin membranes where only water can pas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99280" y="-3780000"/>
            <a:ext cx="9576000" cy="684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0000" y="0"/>
            <a:ext cx="5400720" cy="395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4680000" cy="39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959280"/>
            <a:ext cx="6240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drinking water from these factories are often use to irrigat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nd the desalinazation is very expensive because it needs a lot of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salt can be s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396072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0000" y="-360"/>
            <a:ext cx="9720360" cy="66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026000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fr-FR" sz="3600" spc="-1" strike="noStrike" u="sng">
                <a:solidFill>
                  <a:srgbClr val="ff0000"/>
                </a:solidFill>
                <a:uFillTx/>
                <a:latin typeface="Comic Sans MS"/>
              </a:rPr>
              <a:t>Second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also collect the rain in tanks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use to irrigate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Fields use represents 70% of water consumption)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't drink it because there aren't minerals</a:t>
            </a:r>
            <a:r>
              <a:rPr b="0" lang="fr-FR" sz="2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